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664-BB47-422E-A8CA-299EC7AB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12A-C36A-4E1D-A2BA-1FB6B8FF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A93-7B3C-49F9-A941-1744EDC0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947-5702-4816-B557-5AC98ED7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B7AC-4008-48C2-8616-5D5F0084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F640-E78C-4165-90F1-FEF419F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9B6B-316B-4F18-87CB-1E7DED74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7B18-E58D-4544-8522-4175F64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0B29-29C1-441D-8770-0201E42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0D8D-1D47-4A07-B0FD-22FE2254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F4C7-702A-4471-853B-2FD1C4E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E42-B903-4A1A-B2BA-BC10277D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1CF5-3696-45D2-8A4F-E2B1E3B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89F5-ED81-4A4E-AA7E-04D248B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10B0-DF7D-476B-AC04-88AEF478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2D5-EBA2-484F-870F-FE857489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56D2-AD2D-4876-A4C6-45D2020E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3BE-58D7-4327-92C0-1BEE21A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E0A-C588-45E1-8188-3540C485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85F-3B1A-49AE-BF97-58E4F744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08F-345E-4C16-888F-E54EE39F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E1E-5034-428F-B4DC-FEF87AAC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1C9-74A0-4C84-B9A7-C4983126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3CC-448F-4E41-9A31-446B675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2FA-1D40-40AC-B6E3-66FC626048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DE1-DB0A-4CA1-B49A-CBB9E7F0F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Cold War Division of Germa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I136 History of Germ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rench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43280" y="1341360"/>
            <a:ext cx="5843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pes for dismemberment of Germany (Rhinela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ational control of Ru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pose centralised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signatories to Potsdam (no refugees allowed into French Z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nitive reparations from German industry and fore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join Anglo-American Bizone in 19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USA-E-Supreme-p149"/>
          <p:cNvPicPr/>
          <p:nvPr/>
        </p:nvPicPr>
        <p:blipFill>
          <a:blip r:embed="rId7"/>
          <a:stretch/>
        </p:blipFill>
        <p:spPr>
          <a:xfrm>
            <a:off x="250920" y="1197000"/>
            <a:ext cx="2396880" cy="3384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324000" y="4941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Koenig, French comma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ritish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55548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ril 1946 British alarm at communist-SPD merger in Soviet Zone (bid for all-zone superpart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-1946 British sterling crisis; occupation becoming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ite other occupiers to merge zones (only US accept &gt; Bizonia, Jan. 194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itain now seen as proactive &amp; keen to encourage firmer line from Americans (Deighton,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Impossible Pe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-revisionist synthesis stresses regional 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bevin_e"/>
          <p:cNvPicPr/>
          <p:nvPr/>
        </p:nvPicPr>
        <p:blipFill>
          <a:blip r:embed="rId6"/>
          <a:stretch/>
        </p:blipFill>
        <p:spPr>
          <a:xfrm>
            <a:off x="324000" y="98100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3716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rnest Bevin, British foreign secret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merican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CS 1067: no fraternisation; population to be kept at subsistenc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 1946: US halt reparations deliveries to Soviet 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rnes’ speech (Sept. 1946): America pledges to stay in Germany for long h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47 governor Clay blocks moves to nationalisation of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olyn Eisenberg,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rawing the Li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for a critical view of th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rshall Aid, June 1947-195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st Germany as ‘locomotive’ to economic recovery of we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isation of economy to satisfy French security wor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newed West German infrastructure of Ruhr m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s it more psychological than real aid? (Werner Abelshauser v. Christoph Buchhei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f dismantling policy in eastern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0" y="342900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erlin 1948"/>
          <p:cNvPicPr/>
          <p:nvPr/>
        </p:nvPicPr>
        <p:blipFill>
          <a:blip r:embed="rId1"/>
          <a:stretch/>
        </p:blipFill>
        <p:spPr>
          <a:xfrm>
            <a:off x="755640" y="981000"/>
            <a:ext cx="7416720" cy="55850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900000" y="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erlin: the quadripartite 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: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9152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berated by USSR in April 1945 at cost of 100,000 casualties; western sectors occupied July 194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mal access only recognised via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y access to West via open border, including U-Bahn or flown out of Tempelh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 Airli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3280" y="907920"/>
            <a:ext cx="4500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viet concerns at western preparations for separate West German state (London talks from Jan. 19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rrency reform: June western Allies introduce deutschmark into western zones and West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viets retaliate with closure of access to West Berl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neral Clay organises airlift with political support from Mayor Reuter; despite difficulties in autumn 1948, tonnages rise in No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paganda debacle for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stern Allies move from being ‘victor powers’ to ‘protector power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BerlinAirlift4"/>
          <p:cNvPicPr/>
          <p:nvPr/>
        </p:nvPicPr>
        <p:blipFill>
          <a:blip r:embed="rId7"/>
          <a:stretch/>
        </p:blipFill>
        <p:spPr>
          <a:xfrm>
            <a:off x="179280" y="836640"/>
            <a:ext cx="4464000" cy="40701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250920" y="494172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merican transport aircraft (‘raisin bomber’) lands at Tempelhof; note the children waiting for possible sweets thrown over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108377"/>
          <p:cNvPicPr/>
          <p:nvPr/>
        </p:nvPicPr>
        <p:blipFill>
          <a:blip r:embed="rId1"/>
          <a:stretch/>
        </p:blipFill>
        <p:spPr>
          <a:xfrm>
            <a:off x="2124000" y="260280"/>
            <a:ext cx="4997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: the Divided 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11280" y="764640"/>
            <a:ext cx="4475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uring blockade two city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-Bahn (West) &amp; S-Bahn (Ea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cy spe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opwindow Berlin’: Ku-Damm as showcase of western standard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pionage centre (CIA Berlin tunnel, human intellige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oadcasting: RIAS Americ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stocking"/>
          <p:cNvPicPr/>
          <p:nvPr/>
        </p:nvPicPr>
        <p:blipFill>
          <a:blip r:embed="rId7"/>
          <a:stretch/>
        </p:blipFill>
        <p:spPr>
          <a:xfrm>
            <a:off x="324000" y="836640"/>
            <a:ext cx="1798560" cy="266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b_071s"/>
          <p:cNvPicPr/>
          <p:nvPr/>
        </p:nvPicPr>
        <p:blipFill>
          <a:blip r:embed="rId8"/>
          <a:stretch/>
        </p:blipFill>
        <p:spPr>
          <a:xfrm>
            <a:off x="2195640" y="836640"/>
            <a:ext cx="1876320" cy="2663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324000" y="3789360"/>
            <a:ext cx="18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ster showing smuggling of currency between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268360" y="3716280"/>
            <a:ext cx="18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ware RIAS poison’: communist anti-American poster warning of US broadca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any in 1945 –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die Stunde Nul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zero ho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ccupation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First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econd Berlin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4005360"/>
            <a:ext cx="719280" cy="287280"/>
          </a:xfrm>
          <a:prstGeom prst="rightArrow">
            <a:avLst>
              <a:gd name="adj1" fmla="val 50000"/>
              <a:gd name="adj2" fmla="val 62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fugees via Berlin &amp; Inner-German bor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395280" y="1341360"/>
          <a:ext cx="8569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569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rlin Crisis, 1958-6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DR’s desire for recognition by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SR’s hopes for peace treaties &amp; removal of atomic weaponry from F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hrushchev ultimatum for West to leave West Berlin within 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stern intransigence &amp; threat of nuclear weapons to preserve West Berlin; but non-intervention in East Ber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onomic race to overtake West German economy falters in 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ll cheap alternative to subsidies by US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clusion: Division of Germ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ditional interpretation: Soviet Union is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visionist interpretation: USA are mainly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-revisionist interpretation: both sides are respo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Photo: Befreiung Konzentrationslager Dachau, 1945"/>
          <p:cNvPicPr/>
          <p:nvPr/>
        </p:nvPicPr>
        <p:blipFill>
          <a:blip r:embed="rId1"/>
          <a:stretch/>
        </p:blipFill>
        <p:spPr>
          <a:xfrm>
            <a:off x="4971960" y="0"/>
            <a:ext cx="4172040" cy="587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716360" y="6453360"/>
            <a:ext cx="44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Liberation of the Concentration Camp Dach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Dokumentation: Flucht und Vertreibung, 1945-1949"/>
          <p:cNvPicPr/>
          <p:nvPr/>
        </p:nvPicPr>
        <p:blipFill>
          <a:blip r:embed="rId2"/>
          <a:stretch/>
        </p:blipFill>
        <p:spPr>
          <a:xfrm>
            <a:off x="0" y="3395520"/>
            <a:ext cx="4211640" cy="3191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destruction1945"/>
          <p:cNvPicPr/>
          <p:nvPr/>
        </p:nvPicPr>
        <p:blipFill>
          <a:blip r:embed="rId3"/>
          <a:stretch/>
        </p:blipFill>
        <p:spPr>
          <a:xfrm>
            <a:off x="1332000" y="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Video: Zerstörte Städte"/>
          <p:cNvPicPr/>
          <p:nvPr/>
        </p:nvPicPr>
        <p:blipFill>
          <a:blip r:embed="rId4"/>
          <a:stretch/>
        </p:blipFill>
        <p:spPr>
          <a:xfrm>
            <a:off x="4067280" y="1916280"/>
            <a:ext cx="28548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 badly managed disaster area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index"/>
          <p:cNvPicPr/>
          <p:nvPr/>
        </p:nvPicPr>
        <p:blipFill>
          <a:blip r:embed="rId1"/>
          <a:stretch/>
        </p:blipFill>
        <p:spPr>
          <a:xfrm>
            <a:off x="324000" y="765000"/>
            <a:ext cx="4032000" cy="3052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250920" y="378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ugees arriving in Berlin,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788000" y="378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lack market raid in Berlin, 19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3" descr="Photo: Schwarzmarktrazzia am Brandenburger Tor"/>
          <p:cNvPicPr/>
          <p:nvPr/>
        </p:nvPicPr>
        <p:blipFill>
          <a:blip r:embed="rId2"/>
          <a:stretch/>
        </p:blipFill>
        <p:spPr>
          <a:xfrm>
            <a:off x="4500720" y="765000"/>
            <a:ext cx="3887640" cy="3030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Dokumentation: Leben in den Trümmern, 1945-1947"/>
          <p:cNvPicPr/>
          <p:nvPr/>
        </p:nvPicPr>
        <p:blipFill>
          <a:blip r:embed="rId3"/>
          <a:stretch/>
        </p:blipFill>
        <p:spPr>
          <a:xfrm>
            <a:off x="3203640" y="4317840"/>
            <a:ext cx="3098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Formal Di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6756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heran Feb. 1943: Germany will be divided and occup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Sept. 1944: three zones envisaged (joined by French in 19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sdam July 1945: Germany to be single economic unit, but administered by zonal commanders meeting in Allied Control Counc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ficially, temporary situation pending peace treaty, but de facto conso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947 Economic Council appears in western zones as proto-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ne 1948 separate currencies introdu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949 Federal Republic of (West) Germany announced; Oct. 1949 German Democratic Republic (East) fol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1955 FRG joins NATO; GDR joins Warsaw 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ust 1961 Berlin Wall built cementing di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ap.jpg (54130 Byte)"/>
          <p:cNvPicPr/>
          <p:nvPr/>
        </p:nvPicPr>
        <p:blipFill>
          <a:blip r:embed="rId1"/>
          <a:stretch/>
        </p:blipFill>
        <p:spPr>
          <a:xfrm>
            <a:off x="395280" y="260280"/>
            <a:ext cx="806436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az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ocrat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militar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ntra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arteli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Dismantl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oviet Occup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dualist approach with creeping Sovietisation (no one-party copy of USS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ck of planning, but ‘smash and grab’ (Beria) versus ‘reconstruction’ (Tyulpanov) f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rapes alienat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ionalisation of industry popular (77% support), but dismantling of 30% of factories unpopular (approx. 3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nd reform (popular among farmers, but set unilateral precedent, upsetting western partn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ugees: USSR mainly blamed for inhumane treatment of refugees, ca. 1.5 million d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n Naimark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Russians in Germ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visionist views of Rus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lin’s perceived desire for a deal on Germany (united but neu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ssage to KPD leaders in June 1945 that Germany would remain un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kes on separatist pressures from East German leaders (June 194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ional unity offers (March 1952 Stalin Notes); was this to try to scupper FRG integration into military blo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lf Steininger, Wilfried Loth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Stalin’s Unwante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1:59:52Z</dcterms:created>
  <dc:creator>hyrbw</dc:creator>
  <dc:description/>
  <dc:language>en-US</dc:language>
  <cp:lastModifiedBy>Grace</cp:lastModifiedBy>
  <dcterms:modified xsi:type="dcterms:W3CDTF">2017-02-20T21:50:44Z</dcterms:modified>
  <cp:revision>11</cp:revision>
  <dc:subject/>
  <dc:title>Cold War Division of Germany</dc:title>
</cp:coreProperties>
</file>